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A8DF3-B512-47F7-8F4D-6044CCF0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30BE6-1504-4770-BD6F-9C686E05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32959-3AE5-481D-8FE4-18CBA311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0EC80-5AF5-4A6E-850C-C7F5B408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6531-F830-434C-94DA-1CC55C6A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959B-82AA-4E8D-842D-C09F2385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18A3-9EF5-4EFC-AF61-2D62AA0E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5602-7052-49AA-A28B-279B76A0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3215-9EB4-4869-8962-90921797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ED41-0A80-4E9F-AA89-1276063E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AD23-C5DE-4FEE-A129-805D01DF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33AB-927D-4514-8662-01DC341C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4AC7-255A-4C9A-A539-BB17993E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4CA7-9AF0-4089-9C9E-342E11B6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FA9D-BAD7-477B-A715-EF8C91DF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4F65-9D40-401B-9177-5BC20688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4575-71AC-43E2-A1F7-8532403F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41BE4-7CA1-4289-B5F0-A7D00166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7EEEF-E8E3-4275-A73F-C0533350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F7AE9-E9FD-4EA5-A9DE-ECACC0F6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72CB5-C36E-43F7-A1BD-A7CAE8AD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A6DBB-7766-4DDC-AE36-7BEC9256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EE68B-E071-4EC1-85F7-B2C5B0F4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4AE63-D55A-4900-A405-1D33D7C0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778E-F905-42CD-B567-AF4DD36C28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77E7-9EAA-492C-B6F2-B99855D584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apter 26 continued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happy Farmer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il of the west becoming po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ough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d low-priced products, bought high-priced manufactured goo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led by corpor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de up ½ population, but organiz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81280" y="5210280"/>
            <a:ext cx="20574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armers Take Their Stand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he Grang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-organized by Oliver H. Kell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tter the lives of farmer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range Laws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ublic control of private business for general welf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severely fough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reenback Labor Party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ombined appeal of earlier Greenbackers w/ program for improving labor condi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pulism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rmer’s Alli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ored Farmer’s National Alli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opulist Party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“People’s Party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rm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nted to relieve farmer’s miseri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nted to nationalize railroads, institute a graduated income tax &amp; subtreasury for farm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ee &amp; unlimited coinage of sil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gnatius Donnelly, Mary Elizabeth Le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4582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llman Strik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ic of 1893 confirmed Populist belief that farmers were being mistreat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xey’s Arm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ugene V. Deb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ganized the American Railway Un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ullman Strike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ullman Palace Car Company cuts wages; workers stri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L declined to support strik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leveland sent federal troop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cKinley vs. Bryan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ection of 189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ublican: William McKinl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orted gold standar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mocrat: William Jennings Bry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orted unlimited coinage of silver (inflation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oss of Gold Speec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1219320"/>
            <a:ext cx="1469880" cy="2057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400800" y="4362480"/>
            <a:ext cx="20955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ection of 1896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cKinley w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tes come from ea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yan’s votes come from south &amp; w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 era in American poli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minishing voter particip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akening of party organiz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ding social issu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Party System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cKinley Act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ngley Tariff Bill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new high tariff rates to generate revenue to cover Treasury defici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old Standard Act of 1900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ovided paper currency to be redeemed freely in gol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76720" y="3809880"/>
            <a:ext cx="19080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Long Driv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Long Drive”- TX cowboys driving herds of cattle to railroad terminal where they could be so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sh grass=profi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mesteaders &amp; sheepherders put up barbed wire fences so cattle could not cros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yoming Stock Growers’ Association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attle ranchers organized in order to profi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yday of the cowbo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armers’ Fronti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Homestead Act of 1862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llowed a settler to acquire 160 acres of land by living on it for 5 yea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blic land now given awa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couraged filling of empty spa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nd often proved inadequat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y Farming”- frequent shallow cultivation to adapt to dry environment; ended up drying out soi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oduction of whea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ar West Comes of Ag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eat West” population grow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orado admitted as a state in 1876 (after Pike’s Peak rush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889-1890, Republican cong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 new states: North Dakota, South Dakota, Montana, Washington, Idaho, Wyomin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07: Oklahoma admitted as the “Sooner State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153280" cy="55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ading Frontier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1890, frontier line no longer discernibl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osing of the frontier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ederick Jackson Turner’s thesis on the fronti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 only a place, but a symbol for opportunit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1880, area from Rocky Mtns.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cific Coast was most urbanized (% of ppl. Living in cities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arm Becomes a Factor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gh prices caused farmers to concentrate on growing single “cash crops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at, cor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profits to buy food @ general store &amp; manufactured good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rge scale farmers now specialists &amp; businessm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ed of harvesting wheat increased by invention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wine bin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&amp;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mbin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arm Becomes a Fact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chanization of agricultur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ove farmers off land, added to industrial work for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tdoor grain factory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62320" y="3940200"/>
            <a:ext cx="44622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lation Dooms the Debt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rmers relied on one-crop economy, in same position as southern farm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ces dropped in 1880s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ankruptcy @ fa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w prices &amp; deflated curr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rms had mortgages they could not afford b/c mortgage rates were ris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rm tenancy rather than farm ownership sprea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21:38:30Z</dcterms:created>
  <dc:creator>emily.johnson</dc:creator>
  <dc:description/>
  <dc:language>en-US</dc:language>
  <cp:lastModifiedBy>emily.johnson</cp:lastModifiedBy>
  <dcterms:modified xsi:type="dcterms:W3CDTF">2013-01-24T14:21:44Z</dcterms:modified>
  <cp:revision>5</cp:revision>
  <dc:subject/>
  <dc:title>Chapter 26 continued </dc:title>
</cp:coreProperties>
</file>